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757BE-1CA8-4664-80AC-0937CAA80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150E2-B2D2-4599-8244-EE5A96AD9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12CAB-35F2-440E-8C91-5290DCABA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D697A-4C89-4EA4-99D0-6EFF577A3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Нрпждпдж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П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кеп кц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е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Ц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цк цн  ц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Кц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Кпе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п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аы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ы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5D44-B8EC-48BA-B1B2-582374686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9295-EF03-4527-B835-1BF871BB7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FA6F-B9BF-4776-9DC3-D79B3C7C8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A8C4-4A30-44E3-9610-45007342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59E6-395C-4D5F-8FC9-BB4CB2985D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0107-3F34-499A-8D00-63E708FDE0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4C72A-F4DC-4E7F-A856-51EBA05F08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61AF-A95B-46EE-BA9A-B5564D291C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0B83-A38B-445A-8038-58279DA592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BF0A-78E3-4EE2-9A2D-73FAB5D38C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ADE8-8987-4286-9E2E-6926BF3A8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EA4F-9E58-4B28-A75C-CBEB08015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964D-5040-4D35-BB27-9EC93F07AA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4BB7-4C76-4C83-81A5-80434BFB83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2E69-7B19-47F3-9BC5-87FF29CB3C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4C44-7F9B-402C-95BA-7F81274FB6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EDDB-E660-4857-99DF-211CD5B72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5B07-F9F3-44B4-9736-985213233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AE0A-2812-4659-AF16-E32AE2DA2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C520-577D-4483-AED8-4D5356E90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63FF-392F-4EEB-B560-4A17EA3B7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30B4-05FD-49A3-80D7-CF8760A68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C09E-8DD3-46D7-B5F2-448A8FB61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A9C0-0386-4CED-B39B-D242F62C4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E53FB-8128-494F-B958-1C2848F00E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480"/>
            <a:ext cx="21304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134DD2-247E-4ABB-A141-52E75CE654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24502"/>
          <a:stretch/>
        </p:blipFill>
        <p:spPr>
          <a:xfrm>
            <a:off x="0" y="3284640"/>
            <a:ext cx="8964720" cy="302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8360" y="189000"/>
            <a:ext cx="8207280" cy="25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РКЕС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</a:t>
            </a:r>
            <a:r>
              <a:rPr b="0" lang="ru-RU" sz="8000" spc="-1" strike="noStrike">
                <a:solidFill>
                  <a:srgbClr val="ffffff"/>
                </a:solidFill>
                <a:latin typeface="Garamond"/>
              </a:rPr>
              <a:t>Скрипка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26160" cy="43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Духовые инструмент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160" y="98100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лей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8880" y="5734080"/>
            <a:ext cx="1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898720" cy="1930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2916000" cy="1909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35481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364000" y="1413000"/>
            <a:ext cx="352764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51640" y="981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омб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588000" y="4005360"/>
            <a:ext cx="2078280" cy="208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03840" y="350028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лто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rcRect l="0" t="0" r="1138" b="0"/>
          <a:stretch/>
        </p:blipFill>
        <p:spPr>
          <a:xfrm>
            <a:off x="3492360" y="3789360"/>
            <a:ext cx="2880000" cy="2195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221000" y="3125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</a:t>
            </a:r>
            <a:r>
              <a:rPr b="0" lang="ru-RU" sz="8000" spc="-1" strike="noStrike">
                <a:solidFill>
                  <a:srgbClr val="ffffff"/>
                </a:solidFill>
                <a:latin typeface="Garamond"/>
              </a:rPr>
              <a:t>Труба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440" y="1868400"/>
            <a:ext cx="609588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Ударные инструмент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1405080" cy="1871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6880" y="62064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5440" y="76500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р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321300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сило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9600" y="335772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р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9600" y="342900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ло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620640"/>
            <a:ext cx="18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ав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76720" y="1341360"/>
            <a:ext cx="2106360" cy="1581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6156360" y="1197000"/>
            <a:ext cx="2808360" cy="171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rcRect l="11355" t="7913" r="7812" b="5259"/>
          <a:stretch/>
        </p:blipFill>
        <p:spPr>
          <a:xfrm>
            <a:off x="3276720" y="3860640"/>
            <a:ext cx="2735280" cy="2111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84360" y="3860640"/>
            <a:ext cx="2009520" cy="208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11280" y="1125360"/>
            <a:ext cx="1625400" cy="165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</a:t>
            </a: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Труба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3900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15920"/>
            <a:ext cx="86421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лавишные и одиноч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111400" cy="316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588000" y="414972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я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4520" y="486900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5229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4880" y="32130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48360" y="476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26924" t="22709" r="26267" b="28170"/>
          <a:stretch/>
        </p:blipFill>
        <p:spPr>
          <a:xfrm>
            <a:off x="2987640" y="907920"/>
            <a:ext cx="237636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7200" spc="-1" strike="noStrike">
                <a:solidFill>
                  <a:srgbClr val="ffffff"/>
                </a:solidFill>
                <a:latin typeface="Garamond"/>
              </a:rPr>
              <a:t>труба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2440" y="1868400"/>
            <a:ext cx="609588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барабан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82624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скрипка</a:t>
            </a:r>
            <a:br>
              <a:rPr sz="3800"/>
            </a:b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473688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Орган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2874960" cy="43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69228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Garamond"/>
              </a:rPr>
              <a:t>Оркестр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1680" y="2205000"/>
            <a:ext cx="884232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117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коллектив музыкантов, состоящий из 12 и более исполнителей, играющих на различных инструментах.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       </a:t>
            </a: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Ноты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843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       </a:t>
            </a:r>
            <a:r>
              <a:rPr b="0" lang="ru-RU" sz="8000" spc="-1" strike="noStrike">
                <a:solidFill>
                  <a:srgbClr val="ffffff"/>
                </a:solidFill>
                <a:latin typeface="Garamond"/>
              </a:rPr>
              <a:t>Камертон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88764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Дом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1880" y="349200"/>
            <a:ext cx="8128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«Третий лишний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1484280"/>
            <a:ext cx="634356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руба, валторна, роя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арабан, арфа, тарел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крипка, контрабас, флей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обой, скрипка, клар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арабан, челеста, тарел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ромбон, фагот, валтор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59280" y="1844640"/>
            <a:ext cx="863640" cy="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5280" y="2708280"/>
            <a:ext cx="8636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8720" y="3429000"/>
            <a:ext cx="8636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4221000"/>
            <a:ext cx="863280" cy="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000" y="5013360"/>
            <a:ext cx="86328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08360" y="5877000"/>
            <a:ext cx="8636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Спасибо за урок!!!</a:t>
            </a: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27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 u="sng">
                <a:solidFill>
                  <a:srgbClr val="ffffff"/>
                </a:solidFill>
                <a:uFillTx/>
                <a:latin typeface="Garamond"/>
              </a:rPr>
              <a:t>Виды оркестров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25360"/>
            <a:ext cx="83743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уховой оркест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ркестр народных инструм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Эстрадно-симфонический оркест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жазовый оркест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мфонический оркест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18900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2682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2920" y="692280"/>
          <a:ext cx="7129440" cy="5689440"/>
        </p:xfrm>
        <a:graphic>
          <a:graphicData uri="http://schemas.openxmlformats.org/drawingml/2006/table">
            <a:tbl>
              <a:tblPr/>
              <a:tblGrid>
                <a:gridCol w="397080"/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  <a:gridCol w="397080"/>
                <a:gridCol w="395280"/>
                <a:gridCol w="396720"/>
                <a:gridCol w="395280"/>
              </a:tblGrid>
              <a:tr h="559800">
                <a:tc gridSpan="13"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то невежливый такой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 gridSpan="14"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вернулся к нам спиной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 gridSpan="14"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тал размахивать рука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 gridSpan="14"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ямо в зале перед н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72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 gridSpan="13"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е приучен он к поряд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ли делает зарядку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 gridSpan="15"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 кем звучит оркестр и хор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marL="343080" indent="-339840">
                        <a:lnSpc>
                          <a:spcPct val="139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Знаем, это 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72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9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9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9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9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9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9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9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9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6360" bIns="46800" anchor="b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800" bIns="46800" anchor="b">
                      <a:noAutofit/>
                    </a:bodyPr>
                    <a:p>
                      <a:pPr marL="343080" indent="-339840"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800" bIns="46800" anchor="b">
                      <a:noAutofit/>
                    </a:bodyPr>
                    <a:p>
                      <a:pPr marL="343080" indent="-339840"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800" bIns="46800" anchor="b">
                      <a:noAutofit/>
                    </a:bodyPr>
                    <a:p>
                      <a:pPr marL="343080" indent="-339840"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800" bIns="46800" anchor="b">
                      <a:noAutofit/>
                    </a:bodyPr>
                    <a:p>
                      <a:pPr marL="343080" indent="-339840"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800" bIns="46800" anchor="b">
                      <a:noAutofit/>
                    </a:bodyPr>
                    <a:p>
                      <a:pPr marL="343080" indent="-339840"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800" bIns="46800" anchor="b">
                      <a:noAutofit/>
                    </a:bodyPr>
                    <a:p>
                      <a:pPr marL="343080" indent="-339840"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800" bIns="46800" anchor="b">
                      <a:noAutofit/>
                    </a:bodyPr>
                    <a:p>
                      <a:pPr marL="343080" indent="-339840">
                        <a:lnSpc>
                          <a:spcPct val="86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>
                        <a:lnSpc>
                          <a:spcPct val="87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6633"/>
                          </a:solidFill>
                          <a:latin typeface="Arial Cyr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076720" y="522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   И    Р   И    Ж   Е   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06960" y="1844640"/>
            <a:ext cx="2146320" cy="292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3789360"/>
            <a:ext cx="85788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рижер стоит перед оркестром, чтобы все оркестранты  видели его. Движением рук и мимикой дирижер подсказывает музыкантам, как они должны сыграть тот или иной музыкальный эпиз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2039760" cy="2781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93800" y="476280"/>
            <a:ext cx="564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рижё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чивания и ис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самблевой (оркестров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ровой, оперной и т. 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зыки, котор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адлежит худож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ктовка произ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28464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ладими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в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4797360"/>
            <a:ext cx="266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г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ет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8-200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321300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ш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4797360"/>
            <a:ext cx="259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о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да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-200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8640" y="139680"/>
            <a:ext cx="67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дающиеся дирижеры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4508" t="0" r="8907" b="0"/>
          <a:stretch/>
        </p:blipFill>
        <p:spPr>
          <a:xfrm>
            <a:off x="6516720" y="765000"/>
            <a:ext cx="2376360" cy="2370240"/>
          </a:xfrm>
          <a:prstGeom prst="rect">
            <a:avLst/>
          </a:prstGeom>
          <a:ln w="60480">
            <a:solidFill>
              <a:srgbClr val="ffff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2166840" cy="2425680"/>
          </a:xfrm>
          <a:prstGeom prst="rect">
            <a:avLst/>
          </a:prstGeom>
          <a:ln w="5400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2737080" cy="2089080"/>
          </a:xfrm>
          <a:prstGeom prst="rect">
            <a:avLst/>
          </a:prstGeom>
          <a:ln w="5400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rcRect l="0" t="0" r="16686" b="14938"/>
          <a:stretch/>
        </p:blipFill>
        <p:spPr>
          <a:xfrm>
            <a:off x="5292720" y="2492280"/>
            <a:ext cx="1800360" cy="2160720"/>
          </a:xfrm>
          <a:prstGeom prst="rect">
            <a:avLst/>
          </a:prstGeom>
          <a:ln w="54000">
            <a:solidFill>
              <a:srgbClr val="ffffff"/>
            </a:solidFill>
            <a:miter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189000"/>
            <a:ext cx="82774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имфонический оркес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244000" cy="529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0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00000" y="692280"/>
            <a:ext cx="748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уппы инстру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имфонического орке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500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у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4869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ух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77080" y="35733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лавиш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4941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31680" y="2349360"/>
            <a:ext cx="1446120" cy="8636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4000" y="2276640"/>
            <a:ext cx="1584360" cy="11509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273120" y="2276640"/>
            <a:ext cx="1087560" cy="244944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2276640"/>
            <a:ext cx="1368720" cy="23032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18900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трунные инстр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907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аб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7400" y="558972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олонч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71640" y="2997360"/>
            <a:ext cx="1778040" cy="2585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200340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854360" cy="30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84720" y="1052640"/>
            <a:ext cx="2087640" cy="1670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rcRect l="24174" t="0" r="15443" b="1712"/>
          <a:stretch/>
        </p:blipFill>
        <p:spPr>
          <a:xfrm>
            <a:off x="539640" y="1916280"/>
            <a:ext cx="1800360" cy="3744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56000" y="1052640"/>
            <a:ext cx="16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ри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12536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8:19:10Z</dcterms:created>
  <dc:creator>Zver</dc:creator>
  <dc:description/>
  <dc:language>en-US</dc:language>
  <cp:lastModifiedBy>Улыбка</cp:lastModifiedBy>
  <dcterms:modified xsi:type="dcterms:W3CDTF">2014-02-16T22:39:53Z</dcterms:modified>
  <cp:revision>107</cp:revision>
  <dc:subject/>
  <dc:title>музыка</dc:title>
</cp:coreProperties>
</file>